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907588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14280" y="745920"/>
            <a:ext cx="257796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7560" y="4721400"/>
            <a:ext cx="49914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F42D-CD6D-43E7-9B3C-FF57991D397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577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C491-E217-45F0-81EA-52110CAD9E2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14640" y="746280"/>
            <a:ext cx="2577960" cy="372564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07560" y="4721400"/>
            <a:ext cx="4991400" cy="44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577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E5E8-332F-463D-B15E-494B4DCE33B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2114640" y="746280"/>
            <a:ext cx="2577960" cy="372564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07560" y="4721400"/>
            <a:ext cx="49914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2114640" y="746280"/>
            <a:ext cx="2577960" cy="37256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07560" y="4721400"/>
            <a:ext cx="49914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577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FD79-47B7-4E5D-A67E-C0F910D36C2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0CE0-7EDE-458F-A74D-ED0F07EA4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EC96-2C49-4789-B085-CC86C936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BE69-16A9-47DB-B357-E92220881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786A-F462-4AFD-BDF6-578B414B2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DA9E-7789-45A7-8AFC-2F8F1297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8239-21C1-4DB9-A0EA-DADEE5F0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2E6B-DE76-43E6-A0D5-89AAEEA3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03BB-A3F8-4769-93C0-482CF129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8BC9-13DF-49CA-9450-1B7B3D82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72E7-B6DF-48EE-82E0-530F7479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1F78-9C03-46B8-9002-2F312437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9145-0B11-4E4D-B753-C83809B7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EDBA-F90A-4D80-A823-D4170E77169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1"/>
          <p:cNvSpPr/>
          <p:nvPr/>
        </p:nvSpPr>
        <p:spPr>
          <a:xfrm>
            <a:off x="2079720" y="338040"/>
            <a:ext cx="270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해외연수 지원신청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Line 72"/>
          <p:cNvSpPr/>
          <p:nvPr/>
        </p:nvSpPr>
        <p:spPr>
          <a:xfrm>
            <a:off x="2146320" y="776160"/>
            <a:ext cx="2583000" cy="0"/>
          </a:xfrm>
          <a:prstGeom prst="line">
            <a:avLst/>
          </a:prstGeom>
          <a:ln w="7632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86"/>
          <p:cNvSpPr/>
          <p:nvPr/>
        </p:nvSpPr>
        <p:spPr>
          <a:xfrm>
            <a:off x="1138320" y="9472680"/>
            <a:ext cx="368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※</a:t>
            </a:r>
            <a:r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비의 경우</a:t>
            </a:r>
            <a:r>
              <a:rPr b="0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 신청서에 기재한 금액 이상은 지원이 불가하므로</a:t>
            </a:r>
            <a:r>
              <a:rPr b="0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점 유의하셔서 정확히 기재해 주시기 바랍니다</a:t>
            </a:r>
            <a:r>
              <a:rPr b="0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87"/>
          <p:cNvSpPr/>
          <p:nvPr/>
        </p:nvSpPr>
        <p:spPr>
          <a:xfrm>
            <a:off x="1244880" y="610704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※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72880" y="1092240"/>
          <a:ext cx="6310440" cy="8397720"/>
        </p:xfrm>
        <a:graphic>
          <a:graphicData uri="http://schemas.openxmlformats.org/drawingml/2006/table">
            <a:tbl>
              <a:tblPr/>
              <a:tblGrid>
                <a:gridCol w="835200"/>
                <a:gridCol w="714240"/>
                <a:gridCol w="382680"/>
                <a:gridCol w="828720"/>
                <a:gridCol w="243000"/>
                <a:gridCol w="833400"/>
                <a:gridCol w="666720"/>
                <a:gridCol w="379440"/>
                <a:gridCol w="1427040"/>
              </a:tblGrid>
              <a:tr h="1079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 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7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한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한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영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여권상 표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  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4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월    일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양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·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음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총 언론경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개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부 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 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출입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 락 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휴대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메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0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택주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8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우편번호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 rowSpan="5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수국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수기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수기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 월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    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수주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  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언어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험종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점수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검정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8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 월             고등학교 졸업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 월             대학교              대학              과 졸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번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 월             대학교            대학원             과 졸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번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타사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8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배우자 동반 ○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 Ⅹ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사항에 표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배우자 항공료 지원여부 확인을 위해 표시합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5280">
                <a:tc gridSpan="9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은 상기와 같이 언론인 해외연수 지원을 신청합니다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                                                                  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 월       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                                                    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신청인       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서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19"/>
          <p:cNvSpPr/>
          <p:nvPr/>
        </p:nvSpPr>
        <p:spPr>
          <a:xfrm>
            <a:off x="681840" y="789120"/>
            <a:ext cx="123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※</a:t>
            </a:r>
            <a:r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최근 경력부터 기재해 주십시오</a:t>
            </a:r>
            <a:r>
              <a:rPr b="0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76280" y="1065240"/>
          <a:ext cx="5904000" cy="8023320"/>
        </p:xfrm>
        <a:graphic>
          <a:graphicData uri="http://schemas.openxmlformats.org/drawingml/2006/table">
            <a:tbl>
              <a:tblPr/>
              <a:tblGrid>
                <a:gridCol w="555480"/>
                <a:gridCol w="1675080"/>
                <a:gridCol w="1458720"/>
                <a:gridCol w="719280"/>
                <a:gridCol w="1495440"/>
              </a:tblGrid>
              <a:tr h="303120">
                <a:tc rowSpan="16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  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부  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  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출입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0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수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  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수 상 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내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369720" y="1260360"/>
            <a:ext cx="6135840" cy="76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인은 귀 재단에서 실시하는 </a:t>
            </a:r>
            <a:r>
              <a:rPr b="1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론인 해외연수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프로그램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하 “해외 연수”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관련하여 아래 사항을 확약합니다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해외 연수 참여에 대하여 소속 회사의 사전 동의를 받았으며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타 기관이나 </a:t>
            </a:r>
            <a:br>
              <a:rPr sz="1300"/>
            </a:b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재단에 중복 지원한 사실이 없음을 확인합니다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해외 연수 일정 종료시까지 특별한 사유 없이 중도 귀국하지 않고 연수에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실히 임하겠습니다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원신청서에 허위사항을 기재하거나 중요사항을 누락하지 않았으며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징계처분 등 재단의 운영 취지에 비추어 해외 연수를 수행하기 어려운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유는 없습니다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해외 연수 기간 중 비위 행위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법 위반 행위 등 연수를 수행하기 어렵다고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판단되는 사유가 발생한 경우 재단은 연수 기간 중이라도 언제든지 선발을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취소할 수 있고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법 위반 등에 대해서도 전적으로 본인이 책임을 부담하도록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하겠습니다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수 기간 중 신분의 변화나 연수기관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수내용 등의 변경 사항이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하였거나 발생할 것이 예상되는 경우 즉시 재단에 관련 내용을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유하고 협의하겠습니다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해외 연수 결과는 연수보고서 혹은 논문으로 제출하고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취재를 연계한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우에는 소속회사 매체를 통해서 기획 보도 하겠습니다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7.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해외 연수 결과물이 해외 연수 활성화를 통한 지속적인 언론인 양성을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하여 재단 홈페이지에 게시되고 이용되는 것에 동의합니다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.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해외 연수 기간 종료 이후 최소 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간 언론계에 근무하겠습니다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만일 위 사항을 위반하거나 협의되지 않은 변경 사항이 확인된 경우 소속 회사에 통보 및 지원금 전체를 반환하며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에 대해 어떠한 이의도 제기하지 않겠습니다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                                            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     월       일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                        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인  소속 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명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671400" y="38880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확      약      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390600" y="9201240"/>
            <a:ext cx="604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재단법인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LG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남언론재단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귀중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Line 72"/>
          <p:cNvSpPr/>
          <p:nvPr/>
        </p:nvSpPr>
        <p:spPr>
          <a:xfrm>
            <a:off x="2421000" y="849240"/>
            <a:ext cx="2011320" cy="0"/>
          </a:xfrm>
          <a:prstGeom prst="line">
            <a:avLst/>
          </a:prstGeom>
          <a:ln w="7632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685800" y="3952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정보 제공 및 활용 동의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Rectangle 1"/>
          <p:cNvSpPr/>
          <p:nvPr/>
        </p:nvSpPr>
        <p:spPr>
          <a:xfrm>
            <a:off x="93600" y="1353960"/>
            <a:ext cx="6670800" cy="749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인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LG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남언론재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하 ‘재단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제출하는 언론인 해외연수 프로그램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하 ‘프로그램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련 지원신청서 및 연수계획서에 대한 심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·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평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자 선발 및 결과 관리 등에 있어 재단이 본인의 개인정보를 활용할 필요가 있다는 것을 이해하고 있으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를 위해 「개인정보 보호법」등에 의해 보호되고 있는 본인에 관한 각종 자료를 관련 법령에 따라 재단에 제공하는데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❏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정보의 수집 및 이용 목적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론인 해외연수 심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·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평가 등 대상자 선발 관련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수 관련 각종 안내 및 정보 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프로그램 운영 및 관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비 집행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프로그램 성과 관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❏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집항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적사항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　성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년월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총 언론경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속사 정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사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사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직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입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락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휴대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메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택 주소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사항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교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졸업 여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항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업무경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직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담당업무 포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상경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상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요내용 포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프로그램 관련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수국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수기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수기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수주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학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험종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점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급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검정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증명서 포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수 계획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기소개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학 허가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속 회사 대표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추천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배우자 동반 여부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수 주제 관련 결과물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　연수 관련 보고서 또는 수기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원자는 위 개인정보 제공에 대한 동의를 거부할 수 있으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경우 선발에 제한이 있을 수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있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❏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정보 보유 및 이용기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재단은 프로그램 운영을 위하여 지원서 접수일부터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간 개인정보를 보유하고 이용할 수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있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해당 기간 경과 후에는 연수 결과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수보고서 또는 연수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재단 홈페이지에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재단이 프로그램을 운영하는 기간 동안 게시하는 경우를 제외하고는 법령상 절차에 따라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안전하게 파기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한 지원자 본인의 삭제요청이 있을 경우 지체 없이 해당 개인정보를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파기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93600" y="186480"/>
            <a:ext cx="6670800" cy="460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❏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정보 제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 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재단은 수집한 지원자의 개인정보를 원칙적으로 외부에 공개하지 않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원자가 사전에 동의한 경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법령의 규정에 의거한 경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·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평가 및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 운영과 관련해 필요한 경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속 회사에 대한 프로그램 중단 사실 통보 포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는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에 제공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원자는 위 개인정보 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 제공에 대한 동의를 거부할 수 있으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경우 선발에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한이 있을 수 있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인이 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·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날인한 동의서의 복사본은 심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·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평가에 필요한 다양한 자료 수집의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편의를 위해서 원본과 동일하게 유효하다는 것을 인정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   월     일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원자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속사               직위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재단법인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LG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남언론재단 귀중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02:10:38Z</dcterms:created>
  <dc:creator>(주)LG</dc:creator>
  <dc:description/>
  <dc:language>en-US</dc:language>
  <cp:lastModifiedBy>김민정</cp:lastModifiedBy>
  <cp:lastPrinted>2018-12-13T08:29:22Z</cp:lastPrinted>
  <dcterms:modified xsi:type="dcterms:W3CDTF">2024-12-13T05:55:41Z</dcterms:modified>
  <cp:revision>299</cp:revision>
  <dc:subject/>
  <dc:title>PowerPoint 프레젠테이션</dc:title>
</cp:coreProperties>
</file>