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6858000" cy="9907588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14280" y="745920"/>
            <a:ext cx="257796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7560" y="4721400"/>
            <a:ext cx="49914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6078-EEA1-430D-B672-063D7CB2A1E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577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7F82-EBFF-4001-BEFD-A5038026DD3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2114640" y="746280"/>
            <a:ext cx="2577960" cy="372564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07560" y="4721400"/>
            <a:ext cx="4991400" cy="44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577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85D6-B00A-4ADE-B913-927608A5BF5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2114640" y="746280"/>
            <a:ext cx="2577960" cy="37256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07560" y="4721400"/>
            <a:ext cx="49914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2DFE-3942-4691-B19C-D945F81F9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DFFB-D1B7-4FFD-814B-C2808A6A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080A-C8DF-44B4-B9E1-6471151D1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6051-163D-45A6-B25B-2BE78BD21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55A8-DEFD-45C3-8219-568ED391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F93A-19F4-445D-AD9F-C7E03A84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0C33-70A6-4F13-9CB6-F0721231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F628-098F-45D4-9A05-5858368C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1D0D-3E50-43C8-84EC-2C9CE596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A243-15B4-4AF6-B81C-C4524BF0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9F66-D277-45A4-859D-25A571E4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2CDC-FED3-4F44-A04D-546030B1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2599-F83F-41C6-A108-CDA6937292D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1"/>
          <p:cNvSpPr/>
          <p:nvPr/>
        </p:nvSpPr>
        <p:spPr>
          <a:xfrm>
            <a:off x="0" y="63180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학교육 지원신청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Line 72"/>
          <p:cNvSpPr/>
          <p:nvPr/>
        </p:nvSpPr>
        <p:spPr>
          <a:xfrm>
            <a:off x="2143080" y="1066680"/>
            <a:ext cx="2571840" cy="0"/>
          </a:xfrm>
          <a:prstGeom prst="line">
            <a:avLst/>
          </a:prstGeom>
          <a:ln w="7632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71680" y="1309680"/>
          <a:ext cx="5679720" cy="4148280"/>
        </p:xfrm>
        <a:graphic>
          <a:graphicData uri="http://schemas.openxmlformats.org/drawingml/2006/table">
            <a:tbl>
              <a:tblPr/>
              <a:tblGrid>
                <a:gridCol w="842760"/>
                <a:gridCol w="722160"/>
                <a:gridCol w="984600"/>
                <a:gridCol w="753840"/>
                <a:gridCol w="957240"/>
                <a:gridCol w="1419120"/>
              </a:tblGrid>
              <a:tr h="96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 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한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한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영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여권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  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월    일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양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•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음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총 언론경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개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000"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회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부  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  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출입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휴대폰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                         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메일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택주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우편번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               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571680" y="5456160"/>
          <a:ext cx="5679720" cy="3384720"/>
        </p:xfrm>
        <a:graphic>
          <a:graphicData uri="http://schemas.openxmlformats.org/drawingml/2006/table">
            <a:tbl>
              <a:tblPr/>
              <a:tblGrid>
                <a:gridCol w="842760"/>
                <a:gridCol w="744480"/>
                <a:gridCol w="966960"/>
                <a:gridCol w="1406520"/>
                <a:gridCol w="647640"/>
                <a:gridCol w="1071360"/>
              </a:tblGrid>
              <a:tr h="400320"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 야 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재사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가과정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grid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영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험종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검정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점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1760"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사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월           고등학교   졸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월           대학교              대학            과 졸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번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월           대학교             대학원          과 졸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번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53280">
                <a:tc gridSpan="6">
                  <a:txBody>
                    <a:bodyPr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은 상기와 같이 언론인 어학교육 지원을 신청합니다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                                                         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 월       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                                           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신청인          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서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19"/>
          <p:cNvSpPr/>
          <p:nvPr/>
        </p:nvSpPr>
        <p:spPr>
          <a:xfrm>
            <a:off x="668880" y="820800"/>
            <a:ext cx="121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※</a:t>
            </a:r>
            <a:r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최근 경력부터 기재해 주십시오</a:t>
            </a:r>
            <a:r>
              <a:rPr b="0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76280" y="1065240"/>
          <a:ext cx="5904000" cy="8023320"/>
        </p:xfrm>
        <a:graphic>
          <a:graphicData uri="http://schemas.openxmlformats.org/drawingml/2006/table">
            <a:tbl>
              <a:tblPr/>
              <a:tblGrid>
                <a:gridCol w="555480"/>
                <a:gridCol w="1675080"/>
                <a:gridCol w="1458720"/>
                <a:gridCol w="719280"/>
                <a:gridCol w="1495440"/>
              </a:tblGrid>
              <a:tr h="303120">
                <a:tc rowSpan="16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  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부  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  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출입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10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수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  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수 상 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내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685800" y="74772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기소개 및 지원동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Line 72"/>
          <p:cNvSpPr/>
          <p:nvPr/>
        </p:nvSpPr>
        <p:spPr>
          <a:xfrm>
            <a:off x="2060640" y="1208160"/>
            <a:ext cx="2712960" cy="0"/>
          </a:xfrm>
          <a:prstGeom prst="line">
            <a:avLst/>
          </a:prstGeom>
          <a:ln w="7632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5"/>
          <p:cNvSpPr/>
          <p:nvPr/>
        </p:nvSpPr>
        <p:spPr>
          <a:xfrm>
            <a:off x="476280" y="1639800"/>
            <a:ext cx="5905440" cy="7705800"/>
          </a:xfrm>
          <a:prstGeom prst="rect">
            <a:avLst/>
          </a:prstGeom>
          <a:noFill/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1446120" y="1652760"/>
            <a:ext cx="3771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※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론경력을 중심으로 한 자기소개와 어학교육 지원동기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교육 후 활용 계획 등을 기술하십시오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390600" y="963720"/>
            <a:ext cx="6126120" cy="85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인은 귀 재단에서 실시하는 </a:t>
            </a:r>
            <a:r>
              <a:rPr b="1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론인 어학교육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프로그램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하 “어학 교육”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br>
              <a:rPr sz="1300"/>
            </a:b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련하여 아래 사항을 확약합니다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학교육 참여에 대하여 소속 회사의 사전 동의를 받았으며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학교육 일정 종료시까지 특별한 사유 없이 지각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결석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중단하지 않고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국내외 연수기관에서 교육생으로서 지켜야 할 제반 규정을 준수하여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교육에 성실히 임하겠습니다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원신청서에 허위사항을 기재하거나 중요사항을 누락하지 않았으며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징계처분 등 재단의 운영 취지에 비추어 어학교육을 수행하기 어려운 사유는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습니다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학교육 기간 중 비위 행위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법 위반 행위 등 교육을 수행하기 어렵다고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판단되는 사유가 발생한 경우 재단은 교육 기간 중이라도 언제든지 선발을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취소할 수 있고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법 위반 등에 대해서도 전적으로 본인이 책임을 부담하도록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하겠습니다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학교육 기간 중 소속 변경 등 지원신청서 제출 당시 대비하여 변경 사항이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하였거나 발생할 것이 예상되는 경우 즉시 재단에 관련 내용을 공유하고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협의하겠습니다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만일 위 사항을 위반하거나 협의되지 않은 변경 사항이 확인된 경우 소속 회사에 </a:t>
            </a:r>
            <a:br>
              <a:rPr sz="1300"/>
            </a:b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통보 및 지원금 전체를 반환하며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에 대해 어떠한 이의도 제기하지 않겠습니다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                       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      월        일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     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청인  소속  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                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명                      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390600" y="9416880"/>
            <a:ext cx="6048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재단법인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LG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남언론재단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귀중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34920" y="20016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확      약      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Line 72"/>
          <p:cNvSpPr/>
          <p:nvPr/>
        </p:nvSpPr>
        <p:spPr>
          <a:xfrm>
            <a:off x="2459160" y="660240"/>
            <a:ext cx="2011320" cy="0"/>
          </a:xfrm>
          <a:prstGeom prst="line">
            <a:avLst/>
          </a:prstGeom>
          <a:ln w="7632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685800" y="7668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정보 제공 및 활용 동의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Rectangle 1"/>
          <p:cNvSpPr/>
          <p:nvPr/>
        </p:nvSpPr>
        <p:spPr>
          <a:xfrm>
            <a:off x="201600" y="1709280"/>
            <a:ext cx="6453360" cy="67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인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LG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남언론재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하 ‘재단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제출하는 언론인 어학교육 프로그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하 ‘프로그램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련 지원서에 대한 심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·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평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자 선발 및 결과 관리 등에 있어 재단이 본인의 개인정보를 활용할 필요가 있다는 것을 이해하고 있으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를 위해 「개인정보 보호법」등에 의해 보호되고 있는 본인에 관한 각종 자료를 관련 법령에 따라 재단에 제공하는데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❏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정보의 수집 및 이용 목적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론인 어학교육 프로그램 심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·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평가 등 대상자 선발 관련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프로그램 관련 각종 안내 및 정보 제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프로그램 운영 및 관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비 집행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프로그램 성과 관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❏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집항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적사항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　성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년월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총 언론경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속사 정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사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사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직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입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락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휴대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메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택 주소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사항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교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졸업 여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항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업무경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직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담당업무 포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상경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상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요내용 포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프로그램 관련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참가 과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학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험종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점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급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검정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증명서 포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기소개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원동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교육 후 활용 계획 포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속 회사 대표 추천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원자는 위 개인정보 제공에 대한 동의를 거부할 수 있으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경우 선발에 제한이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있을 수 있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❏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정보 보유 및 이용기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재단은 프로그램 운영을 위하여 지원서 접수일부터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간 개인정보를 보유하고 이용할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수 있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한 지원자 본인의 삭제요청이 있을 경우 지체 없이 해당 개인정보를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파기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201600" y="378720"/>
            <a:ext cx="6453360" cy="508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❏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정보 제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 제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재단은 수집한 지원자의 개인정보를 원칙적으로 외부에 공개하지 않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원자가 사전에 동의한 경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법령의 규정에 의거한 경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·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평가 및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 운영과 관련해 필요한 경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속 회사에 대한 프로그램 중단 사실 통보포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는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에 제공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원자는 위 개인정보 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 제공에 대한 동의를 거부할 수 있으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경우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선발에 제한이 있을 수 있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인이 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·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날인한 동의서의 복사본은 심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·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평가에 필요한 다양한 자료 수집의 편의를 위해서 원본과 동일하게 유효하다는 것을 인정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 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   월     일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원자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속사               직위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 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재단법인 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LG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남언론재단 귀중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02:10:38Z</dcterms:created>
  <dc:creator>(주)LG</dc:creator>
  <dc:description/>
  <dc:language>en-US</dc:language>
  <cp:lastModifiedBy>김민정</cp:lastModifiedBy>
  <cp:lastPrinted>2024-12-10T00:30:58Z</cp:lastPrinted>
  <dcterms:modified xsi:type="dcterms:W3CDTF">2024-12-13T05:56:18Z</dcterms:modified>
  <cp:revision>265</cp:revision>
  <dc:subject/>
  <dc:title>PowerPoint 프레젠테이션</dc:title>
</cp:coreProperties>
</file>